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FA11-7589-43EA-BED1-CBDECBD3363B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573E-4759-40EA-AFD8-901F5085863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8CA-E855-49C5-995A-4ADDC32D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89B-4A87-495F-8842-667DD31E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3DA-106A-4806-A15F-9279A9D8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01B-AFCB-4BD8-96AA-AFA54225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2FF-679A-4250-8B03-C554A463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5EE-153A-4586-B65A-F6AC94B8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131-CB80-4517-9445-DF01CB0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CDB-946D-47CB-9B0B-8CE2E307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D83-A814-40A2-82EF-ABAAEBB5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39C-4F05-4761-A15E-FEC27AB7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E56-907D-49B5-A749-5C8C3486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1B8-5637-44E4-8367-BF476721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3C07-1C2B-4F6E-BD09-90C3965DC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images.google.fr/imgres?imgurl=http://www.cezam-bretagne.com/aceva_56/modules/kameleon/upload/vive-les-vacances1.jpg&amp;imgrefurl=http://www.cezam-bretagne.com/aceva_56/?espace=titulaire&amp;usg=__gPSUNYj-juUVHr5ih_dfaajLXmg=&amp;h=300&amp;w=400&amp;sz=21&amp;hl=pt-PT&amp;start=6&amp;tbnid=NMxX-dE24VpSWM:&amp;tbnh=93&amp;tbnw=124&amp;prev=/images?q=vacances&amp;gbv=2&amp;hl=pt-PT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fr/imgres?imgurl=http://www.webos-france.com/wp-content/uploads/2009/08/vacances.jpg&amp;imgrefurl=http://www.webos-france.com/divers/retour-de-vacances-980/&amp;usg=__re51f-M5UkCJpopsqJZ4ICVP438=&amp;h=676&amp;w=684&amp;sz=45&amp;hl=pt-PT&amp;start=2&amp;tbnid=MguK6X9f6dUvaM:&amp;tbnh=137&amp;tbnw=139&amp;prev=/images?q=vacances&amp;gbv=2&amp;hl=pt-PT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anaclaudiarocha.eti.br/imagens/chat.png&amp;imgrefurl=http://anaclaudiarocha.eti.br/imagens/&amp;usg=__Uujo3LHojvaEC7ruZ9-_2q03hX4=&amp;h=300&amp;w=300&amp;sz=54&amp;hl=pt-PT&amp;start=5&amp;tbnid=YuplXj8UGjwjnM:&amp;tbnh=116&amp;tbnw=116&amp;prev=/images?q=chat&amp;gbv=2&amp;hl=pt-PT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fr/imgres?imgurl=http://www.carpestudentem.org/sharedres/pictures/tennis.jpg&amp;imgrefurl=http://www.carpestudentem.org/pub/article.php?id=1127&amp;usg=__kTobKcOqNex-EmaQodG_-eO-HaA=&amp;h=337&amp;w=393&amp;sz=42&amp;hl=pt-PT&amp;start=16&amp;tbnid=5J60TzyrsR3cZM:&amp;tbnh=106&amp;tbnw=124&amp;prev=/images?q=tennis&amp;gbv=2&amp;hl=pt-PT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fr/imgres?imgurl=http://brasilvitrine.com/lojamodelo/images/bola%20de%20voley.jpg&amp;imgrefurl=http://brasilvitrine.com/lojamodelo/index.php?cPath=26&amp;usg=__0EE-eNAQIQPFlatfzpn3f53X4WE=&amp;h=350&amp;w=350&amp;sz=11&amp;hl=pt-PT&amp;start=45&amp;tbnid=mu3C1y7KO5JMYM:&amp;tbnh=120&amp;tbnw=120&amp;prev=/images?q=voley&amp;gbv=2&amp;ndsp=18&amp;hl=pt-PT&amp;sa=N&amp;start=36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fr/imgres?imgurl=http://www.qctop.com/articles/upload/ordi-75793.jpg&amp;imgrefurl=http://www.qctop.com/articles/achat-portable.htm&amp;usg=__cSkneDalREekBbrBrZl-RtH5wgo=&amp;h=547&amp;w=600&amp;sz=43&amp;hl=pt-PT&amp;start=48&amp;tbnid=ANysr_X5ST4RtM:&amp;tbnh=123&amp;tbnw=135&amp;prev=/images?q=ordinateur&amp;gbv=2&amp;ndsp=18&amp;hl=pt-PT&amp;sa=N&amp;start=36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inakis.fr/image-loisirs-services-ethiques/transports/velos-a-assistance-electrique/74186-le-velo-electrique-futuro-batterie-gel-plomb.jpg&amp;imgrefurl=http://blog.inakis.fr/index.php?2008/11/03/97-le-velo-a-assistance-electrique-un-moyen-de-transport-ecologique-et-accessible-a-tous&amp;usg=__kAGQoPTy5HSlNkP1fLek5Plfh8k=&amp;h=527&amp;w=650&amp;sz=215&amp;hl=pt-PT&amp;start=9&amp;tbnid=noOeCkJtDCZPwM:&amp;tbnh=111&amp;tbnw=137&amp;prev=/images?q=v&#233;lo&amp;gbv=2&amp;hl=pt-PT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fr/imgres?imgurl=http://www.photoway.com/images/martinique/plus-belle-plage.jpg&amp;imgrefurl=http://www.photoway.com/fr/phototheque/mer-plages-belle-plage.html&amp;usg=__N--Bywwb1KZPQFgaWUXZWGiVmTI=&amp;h=320&amp;w=480&amp;sz=48&amp;hl=pt-PT&amp;start=1&amp;tbnid=IKzCnAfWSYGtZM:&amp;tbnh=86&amp;tbnw=129&amp;prev=/images?q=plage&amp;gbv=2&amp;hl=pt-PT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http://www.sci.utah.edu/~stevec/paint/skateboard.jpg&amp;imgrefurl=http://www.extremesportslife.com/heinous-snowboard-crash-videos/&amp;usg=__GFM8rRqso07fOPiZ0Refgb33o3c=&amp;h=1024&amp;w=1024&amp;sz=235&amp;hl=pt-PT&amp;start=5&amp;tbnid=pxd0kj87GDL1jM:&amp;tbnh=150&amp;tbnw=150&amp;prev=/images?q=skateboard&amp;gbv=2&amp;hl=pt-PT&amp;sa=X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http://spellbounding.files.wordpress.com/2009/06/cinema.jpg&amp;imgrefurl=http://spellbounding.wordpress.com/&amp;usg=__-BxGOXP1olsR09yXd8YXRSx3gTw=&amp;h=1024&amp;w=819&amp;sz=159&amp;hl=pt-PT&amp;start=1&amp;tbnid=78ePlVPiRbh3CM:&amp;tbnh=150&amp;tbnw=120&amp;prev=/images?q=cinema&amp;gbv=2&amp;hl=pt-PT" TargetMode="External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Les vacances, c’est le te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Conexão recta unidireccional 4"/>
          <p:cNvCxnSpPr>
            <a:endCxn id="50" idx="1"/>
          </p:cNvCxnSpPr>
          <p:nvPr/>
        </p:nvCxnSpPr>
        <p:spPr>
          <a:xfrm flipV="1">
            <a:off x="5333760" y="2180520"/>
            <a:ext cx="114372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Conexão recta unidireccional 6"/>
          <p:cNvCxnSpPr>
            <a:endCxn id="52" idx="1"/>
          </p:cNvCxnSpPr>
          <p:nvPr/>
        </p:nvCxnSpPr>
        <p:spPr>
          <a:xfrm>
            <a:off x="5334120" y="2895480"/>
            <a:ext cx="1295640" cy="641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CaixaDeTexto 10"/>
          <p:cNvSpPr/>
          <p:nvPr/>
        </p:nvSpPr>
        <p:spPr>
          <a:xfrm>
            <a:off x="6477120" y="19810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Des loisirs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aixaDeTexto 12"/>
          <p:cNvSpPr/>
          <p:nvPr/>
        </p:nvSpPr>
        <p:spPr>
          <a:xfrm>
            <a:off x="6629400" y="3352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u rep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aixaDeTexto 22"/>
          <p:cNvSpPr/>
          <p:nvPr/>
        </p:nvSpPr>
        <p:spPr>
          <a:xfrm>
            <a:off x="685800" y="4724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Loisirs = le temps li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t3.gstatic.com/images?q=tbn:NMxX-dE24VpSWM:http://www.cezam-bretagne.com/aceva_56/modules/kameleon/upload/vive-les-vacances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476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t2.gstatic.com/images?q=tbn:MguK6X9f6dUvaM:http://www.webos-france.com/wp-content/uploads/2009/08/vacanc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3733920"/>
            <a:ext cx="1905120" cy="187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Lurdes\Desktop\parcs-loisirs-aquatique-marineland[1].jpg"/>
          <p:cNvPicPr/>
          <p:nvPr/>
        </p:nvPicPr>
        <p:blipFill>
          <a:blip r:embed="rId6"/>
          <a:stretch/>
        </p:blipFill>
        <p:spPr>
          <a:xfrm>
            <a:off x="4038480" y="457200"/>
            <a:ext cx="19814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33cc"/>
                </a:solidFill>
                <a:latin typeface="Calibri"/>
              </a:rPr>
              <a:t>Les lois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3"/>
          <p:cNvSpPr/>
          <p:nvPr/>
        </p:nvSpPr>
        <p:spPr>
          <a:xfrm>
            <a:off x="4267080" y="152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Lire /  danser / chanter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Écouter de la musique / Regarder la télé / sortir avec les copains / cha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6"/>
          <p:cNvSpPr/>
          <p:nvPr/>
        </p:nvSpPr>
        <p:spPr>
          <a:xfrm>
            <a:off x="480060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Jou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haveta à esquerda 7"/>
          <p:cNvSpPr/>
          <p:nvPr/>
        </p:nvSpPr>
        <p:spPr>
          <a:xfrm>
            <a:off x="5791320" y="144792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1523880"/>
              <a:gd name="textAreaBottom" fmla="*/ 15199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5943600" y="152388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à l’ordinat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x cartes/ dames/ éche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football (au ball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volley-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ten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4038480" y="5410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F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12"/>
          <p:cNvSpPr/>
          <p:nvPr/>
        </p:nvSpPr>
        <p:spPr>
          <a:xfrm>
            <a:off x="525780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Al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aveta à esquerda 16"/>
          <p:cNvSpPr/>
          <p:nvPr/>
        </p:nvSpPr>
        <p:spPr>
          <a:xfrm>
            <a:off x="6248520" y="342900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1523880"/>
              <a:gd name="textAreaBottom" fmla="*/ 15199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ixaDeTexto 18"/>
          <p:cNvSpPr/>
          <p:nvPr/>
        </p:nvSpPr>
        <p:spPr>
          <a:xfrm>
            <a:off x="6553080" y="34290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ciné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théâ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con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à la plage/pis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Conexão recta unidireccional 20"/>
          <p:cNvCxnSpPr>
            <a:stCxn id="57" idx="3"/>
            <a:endCxn id="58" idx="1"/>
          </p:cNvCxnSpPr>
          <p:nvPr/>
        </p:nvCxnSpPr>
        <p:spPr>
          <a:xfrm flipV="1">
            <a:off x="3200040" y="613800"/>
            <a:ext cx="1067400" cy="23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Conexão recta unidireccional 23"/>
          <p:cNvCxnSpPr>
            <a:stCxn id="57" idx="3"/>
            <a:endCxn id="59" idx="1"/>
          </p:cNvCxnSpPr>
          <p:nvPr/>
        </p:nvCxnSpPr>
        <p:spPr>
          <a:xfrm>
            <a:off x="3200040" y="845640"/>
            <a:ext cx="1600920" cy="1320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onexão recta unidireccional 26"/>
          <p:cNvCxnSpPr>
            <a:stCxn id="57" idx="3"/>
            <a:endCxn id="63" idx="1"/>
          </p:cNvCxnSpPr>
          <p:nvPr/>
        </p:nvCxnSpPr>
        <p:spPr>
          <a:xfrm>
            <a:off x="3200040" y="846000"/>
            <a:ext cx="2057760" cy="330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Chaveta à esquerda 31"/>
          <p:cNvSpPr/>
          <p:nvPr/>
        </p:nvSpPr>
        <p:spPr>
          <a:xfrm>
            <a:off x="5181480" y="48769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1523880"/>
              <a:gd name="textAreaBottom" fmla="*/ 15199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34"/>
          <p:cNvSpPr/>
          <p:nvPr/>
        </p:nvSpPr>
        <p:spPr>
          <a:xfrm>
            <a:off x="55627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u vé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u sk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u 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es promen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Conexão recta unidireccional 36"/>
          <p:cNvCxnSpPr>
            <a:stCxn id="57" idx="3"/>
            <a:endCxn id="62" idx="1"/>
          </p:cNvCxnSpPr>
          <p:nvPr/>
        </p:nvCxnSpPr>
        <p:spPr>
          <a:xfrm>
            <a:off x="3200400" y="846000"/>
            <a:ext cx="838800" cy="474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2" name="Picture 2" descr="http://t2.gstatic.com/images?q=tbn:mDqacbP6P4KPMM:http://blog4.opovo.com.br/educacao/wp-content/uploads/2009/07/cinema.jpg"/>
          <p:cNvPicPr/>
          <p:nvPr/>
        </p:nvPicPr>
        <p:blipFill>
          <a:blip r:embed="rId1"/>
          <a:stretch/>
        </p:blipFill>
        <p:spPr>
          <a:xfrm>
            <a:off x="304920" y="1295280"/>
            <a:ext cx="112392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t3.gstatic.com/images?q=tbn:m2l3v_25DoEe7M:http://www1.pgcps.org/uploadedImages/Schools_and_Centers/Elementary_Schools/Beacon_Heights/expensive-headphones.jpg"/>
          <p:cNvPicPr/>
          <p:nvPr/>
        </p:nvPicPr>
        <p:blipFill>
          <a:blip r:embed="rId2"/>
          <a:stretch/>
        </p:blipFill>
        <p:spPr>
          <a:xfrm>
            <a:off x="1600200" y="28195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t0.gstatic.com/images?q=tbn:t7xICVuo2Ph95M:http://www.sport-thieme.com/y/450pixel/1884685.jpg"/>
          <p:cNvPicPr/>
          <p:nvPr/>
        </p:nvPicPr>
        <p:blipFill>
          <a:blip r:embed="rId3"/>
          <a:stretch/>
        </p:blipFill>
        <p:spPr>
          <a:xfrm>
            <a:off x="457200" y="4191120"/>
            <a:ext cx="120960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t1.gstatic.com/images?q=tbn:3f9VeilEh-AnIM:http://www.educol.net/regarder-la-tele-t13561.jpg"/>
          <p:cNvPicPr/>
          <p:nvPr/>
        </p:nvPicPr>
        <p:blipFill>
          <a:blip r:embed="rId4"/>
          <a:stretch/>
        </p:blipFill>
        <p:spPr>
          <a:xfrm>
            <a:off x="2133720" y="525780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t3.gstatic.com/images?q=tbn:7YNTYefq2R2BFM:http://www.ville-wattrelos.fr/images/stories/livres.gif"/>
          <p:cNvPicPr/>
          <p:nvPr/>
        </p:nvPicPr>
        <p:blipFill>
          <a:blip r:embed="rId5"/>
          <a:stretch/>
        </p:blipFill>
        <p:spPr>
          <a:xfrm>
            <a:off x="7772400" y="5486400"/>
            <a:ext cx="1190520" cy="1038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://t1.gstatic.com/images?q=tbn:ZWxtnrHUi7kznM:http://www.mikaelcarissimo.com/wp-content/uploads/2009/01/chanteur_chanteuse.jpg"/>
          <p:cNvPicPr/>
          <p:nvPr/>
        </p:nvPicPr>
        <p:blipFill>
          <a:blip r:embed="rId6"/>
          <a:stretch/>
        </p:blipFill>
        <p:spPr>
          <a:xfrm>
            <a:off x="7696080" y="914400"/>
            <a:ext cx="11527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228600"/>
            <a:ext cx="4724280" cy="52056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Que fais-tu pendant tes loisi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33520" y="1066680"/>
            <a:ext cx="43434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’habitude, pendant mes loisir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aixaDeTexto 5"/>
          <p:cNvSpPr/>
          <p:nvPr/>
        </p:nvSpPr>
        <p:spPr>
          <a:xfrm>
            <a:off x="28195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l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ixaDeTexto 6"/>
          <p:cNvSpPr/>
          <p:nvPr/>
        </p:nvSpPr>
        <p:spPr>
          <a:xfrm>
            <a:off x="678168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da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aixaDeTexto 7"/>
          <p:cNvSpPr/>
          <p:nvPr/>
        </p:nvSpPr>
        <p:spPr>
          <a:xfrm>
            <a:off x="762120" y="2895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ch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aixaDeTexto 8"/>
          <p:cNvSpPr/>
          <p:nvPr/>
        </p:nvSpPr>
        <p:spPr>
          <a:xfrm>
            <a:off x="2971800" y="4495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’écoute de la mus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aixaDeTexto 9"/>
          <p:cNvSpPr/>
          <p:nvPr/>
        </p:nvSpPr>
        <p:spPr>
          <a:xfrm>
            <a:off x="388620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regarde la tel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aixaDeTexto 10"/>
          <p:cNvSpPr/>
          <p:nvPr/>
        </p:nvSpPr>
        <p:spPr>
          <a:xfrm>
            <a:off x="3809880" y="3124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sors avec mes cop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aixaDeTexto 11"/>
          <p:cNvSpPr/>
          <p:nvPr/>
        </p:nvSpPr>
        <p:spPr>
          <a:xfrm>
            <a:off x="6477120" y="5715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cha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ixaDeTexto 12"/>
          <p:cNvSpPr/>
          <p:nvPr/>
        </p:nvSpPr>
        <p:spPr>
          <a:xfrm>
            <a:off x="38088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joue à l’ordinat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ixaDeTexto 13"/>
          <p:cNvSpPr/>
          <p:nvPr/>
        </p:nvSpPr>
        <p:spPr>
          <a:xfrm>
            <a:off x="83808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joue aux car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ixaDeTexto 14"/>
          <p:cNvSpPr/>
          <p:nvPr/>
        </p:nvSpPr>
        <p:spPr>
          <a:xfrm>
            <a:off x="3352680" y="5562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joue au 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ixaDeTexto 15"/>
          <p:cNvSpPr/>
          <p:nvPr/>
        </p:nvSpPr>
        <p:spPr>
          <a:xfrm>
            <a:off x="6400800" y="2438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joue au volley-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ixaDeTexto 16"/>
          <p:cNvSpPr/>
          <p:nvPr/>
        </p:nvSpPr>
        <p:spPr>
          <a:xfrm>
            <a:off x="63244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joue au ten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3809880"/>
            <a:ext cx="350532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nd j’ai du temps libr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t1.gstatic.com/images?q=tbn:YuplXj8UGjwjnM:http://anaclaudiarocha.eti.br/imagens/chat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4100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t0.gstatic.com/images?q=tbn:5J60TzyrsR3cZM:http://www.carpestudentem.org/sharedres/pictures/tenni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609480"/>
            <a:ext cx="1181160" cy="100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t2.gstatic.com/images?q=tbn:mu3C1y7KO5JMYM:http://brasilvitrine.com/lojamodelo/images/bola%2520de%2520voley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3048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t0.gstatic.com/images?q=tbn:ANysr_X5ST4RtM:http://www.qctop.com/articles/upload/ordi-75793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5486400"/>
            <a:ext cx="12859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ixaDeTexto 3"/>
          <p:cNvSpPr/>
          <p:nvPr/>
        </p:nvSpPr>
        <p:spPr>
          <a:xfrm>
            <a:off x="2514600" y="4419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vais au ciné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aixaDeTexto 4"/>
          <p:cNvSpPr/>
          <p:nvPr/>
        </p:nvSpPr>
        <p:spPr>
          <a:xfrm>
            <a:off x="4648320" y="2971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vais au théâ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aixaDeTexto 5"/>
          <p:cNvSpPr/>
          <p:nvPr/>
        </p:nvSpPr>
        <p:spPr>
          <a:xfrm>
            <a:off x="457200" y="1447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vais au con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ixaDeTexto 6"/>
          <p:cNvSpPr/>
          <p:nvPr/>
        </p:nvSpPr>
        <p:spPr>
          <a:xfrm>
            <a:off x="380988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vais au 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ixaDeTexto 7"/>
          <p:cNvSpPr/>
          <p:nvPr/>
        </p:nvSpPr>
        <p:spPr>
          <a:xfrm>
            <a:off x="2819520" y="16002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vais à la plage/pis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aixaDeTexto 8"/>
          <p:cNvSpPr/>
          <p:nvPr/>
        </p:nvSpPr>
        <p:spPr>
          <a:xfrm>
            <a:off x="4952880" y="2133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fais du vé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9"/>
          <p:cNvSpPr/>
          <p:nvPr/>
        </p:nvSpPr>
        <p:spPr>
          <a:xfrm>
            <a:off x="3808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fais du sk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aixaDeTexto 10"/>
          <p:cNvSpPr/>
          <p:nvPr/>
        </p:nvSpPr>
        <p:spPr>
          <a:xfrm>
            <a:off x="106668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fais du 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aixaDeTexto 11"/>
          <p:cNvSpPr/>
          <p:nvPr/>
        </p:nvSpPr>
        <p:spPr>
          <a:xfrm>
            <a:off x="571500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fais des promen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04920" y="685800"/>
            <a:ext cx="43434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fois, quand j’ai du temps li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09480" y="3581280"/>
            <a:ext cx="38862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nd j’ai du temp libr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t2.gstatic.com/images?q=tbn:noOeCkJtDCZPwM:http://www.inakis.fr/image-loisirs-services-ethiques/transports/velos-a-assistance-electrique/74186-le-velo-electrique-futuro-batterie-gel-plom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305000" cy="1057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t2.gstatic.com/images?q=tbn:IKzCnAfWSYGtZM:http://www.photoway.com/images/martinique/plus-belle-pla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228600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t0.gstatic.com/images?q=tbn:pxd0kj87GDL1jM:http://www.sci.utah.edu/~stevec/paint/skateboar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2209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t3.gstatic.com/images?q=tbn:78ePlVPiRbh3CM:http://spellbounding.files.wordpress.com/2009/06/cinem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53341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://t1.gstatic.com/images?q=tbn:ldYtLGqjiada_M:http://hensleygroupinc.com/ESW/Images/EC1_concert_crowd.jpg"/>
          <p:cNvPicPr/>
          <p:nvPr/>
        </p:nvPicPr>
        <p:blipFill>
          <a:blip r:embed="rId9"/>
          <a:stretch/>
        </p:blipFill>
        <p:spPr>
          <a:xfrm>
            <a:off x="304920" y="4495680"/>
            <a:ext cx="14000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0:27:57Z</dcterms:created>
  <dc:creator>Lurdes</dc:creator>
  <dc:description/>
  <dc:language>en-US</dc:language>
  <cp:lastModifiedBy>Claudiu</cp:lastModifiedBy>
  <dcterms:modified xsi:type="dcterms:W3CDTF">2012-05-18T11:26:51Z</dcterms:modified>
  <cp:revision>46</cp:revision>
  <dc:subject/>
  <dc:title>Les vacances c’est le temps</dc:title>
</cp:coreProperties>
</file>